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6.png" ContentType="image/png"/>
  <Override PartName="/ppt/media/explode.wav" ContentType="audio/x-wav"/>
  <Override PartName="/ppt/media/wind.wav" ContentType="audio/x-wav"/>
  <Override PartName="/ppt/media/image1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drumroll.wav" ContentType="audio/x-wav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3ED-AEB1-4AB5-AC93-C691A492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49E-C1AD-40C0-8677-B014EA70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BFE-4A4C-4394-B0E7-B5D553BB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0D0-2E52-47BE-B55E-5D568157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641-1145-4DBF-A63C-535D442B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383-3002-4823-81A3-EEA440B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25A-D0C0-4CE4-B1BF-3A345F9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B30-B4B3-4071-89F2-4BB0358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118-9511-4D1B-82FB-020FEA04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04F-40B5-4B2F-8AD7-C7181F1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931-7497-421A-BF31-8090CB09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A6A-E5DD-4325-A357-47F6D86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34B-8183-4FC9-B46D-1AC46AABB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hyperlink" Target="file:///usr/lib/libreoffice/share/gallery/sounds/laser.wav" TargetMode="External"/><Relationship Id="rId10" Type="http://schemas.openxmlformats.org/officeDocument/2006/relationships/image" Target="../media/image9.png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oltage.wav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609480" y="457200"/>
            <a:ext cx="7925040" cy="419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>
            <a:hlinkClick r:id="rId1"/>
          </p:cNvPr>
          <p:cNvSpPr/>
          <p:nvPr/>
        </p:nvSpPr>
        <p:spPr>
          <a:xfrm>
            <a:off x="838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365760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553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Action Button: Information 9"/>
          <p:cNvGrpSpPr/>
          <p:nvPr/>
        </p:nvGrpSpPr>
        <p:grpSpPr>
          <a:xfrm>
            <a:off x="171360" y="6138720"/>
            <a:ext cx="700200" cy="640080"/>
            <a:chOff x="171360" y="6138720"/>
            <a:chExt cx="700200" cy="640080"/>
          </a:xfrm>
        </p:grpSpPr>
        <p:pic>
          <p:nvPicPr>
            <p:cNvPr id="46" name="Action Button: Information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1360" y="6138720"/>
              <a:ext cx="70020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28600" y="6172200"/>
              <a:ext cx="587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8" descr="simplemachines.gif"/>
          <p:cNvPicPr/>
          <p:nvPr/>
        </p:nvPicPr>
        <p:blipFill>
          <a:blip r:embed="rId4"/>
          <a:stretch/>
        </p:blipFill>
        <p:spPr>
          <a:xfrm>
            <a:off x="1627200" y="685800"/>
            <a:ext cx="59929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49" name="Action Button: Forward or Next 8"/>
          <p:cNvGrpSpPr/>
          <p:nvPr/>
        </p:nvGrpSpPr>
        <p:grpSpPr>
          <a:xfrm>
            <a:off x="8248680" y="6138720"/>
            <a:ext cx="723960" cy="640080"/>
            <a:chOff x="8248680" y="6138720"/>
            <a:chExt cx="723960" cy="640080"/>
          </a:xfrm>
        </p:grpSpPr>
        <p:pic>
          <p:nvPicPr>
            <p:cNvPr id="50" name="Action Button: Forward or Next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48680" y="6138720"/>
              <a:ext cx="72396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305920" y="61722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New Stories (Highway Blues).wma" descr=""/>
          <p:cNvPicPr/>
          <p:nvPr/>
        </p:nvPicPr>
        <p:blipFill>
          <a:blip r:embed="rId7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9371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3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5"/>
          <a:stretch/>
        </p:blipFill>
        <p:spPr>
          <a:xfrm>
            <a:off x="3809880" y="4952880"/>
            <a:ext cx="137160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 round object with a rod through its center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4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4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5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5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5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6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6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1722600" cy="151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 slanting surface connecting a lower level to a higher lev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7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7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8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8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8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9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9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5"/>
          <a:stretch/>
        </p:blipFill>
        <p:spPr>
          <a:xfrm>
            <a:off x="3581280" y="5105520"/>
            <a:ext cx="19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A slanting surface wrapped around a pole, which holds things together or lifts materia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20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20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21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21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217" name="Rounded Rectangle 14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220" name="Rounded Rectangle 15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arallelogram 3">
            <a:hlinkClick r:id="rId1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228" name="Right Arrow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5"/>
          <a:stretch/>
        </p:blipFill>
        <p:spPr>
          <a:xfrm>
            <a:off x="3886200" y="5105520"/>
            <a:ext cx="144792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 simple machine that uses grooved wheels and a rope to raise, lower, or move a lo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5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5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6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6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6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7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2"/>
          <p:cNvSpPr/>
          <p:nvPr/>
        </p:nvSpPr>
        <p:spPr>
          <a:xfrm>
            <a:off x="533520" y="533520"/>
            <a:ext cx="8229600" cy="586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31859c"/>
                </a:solidFill>
                <a:uFillTx/>
                <a:latin typeface="Times New Roman"/>
                <a:ea typeface="Times New Roman"/>
              </a:rPr>
              <a:t>Instruction</a:t>
            </a: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lect the type of simple machine describ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Action Button: Forward or Next 4"/>
          <p:cNvGrpSpPr/>
          <p:nvPr/>
        </p:nvGrpSpPr>
        <p:grpSpPr>
          <a:xfrm>
            <a:off x="7407360" y="5450040"/>
            <a:ext cx="725400" cy="645840"/>
            <a:chOff x="7407360" y="5450040"/>
            <a:chExt cx="725400" cy="645840"/>
          </a:xfrm>
        </p:grpSpPr>
        <p:pic>
          <p:nvPicPr>
            <p:cNvPr id="235" name="Action Button: Forward or Next 4" descr=""/>
            <p:cNvPicPr/>
            <p:nvPr/>
          </p:nvPicPr>
          <p:blipFill>
            <a:blip r:embed="rId1"/>
            <a:stretch/>
          </p:blipFill>
          <p:spPr>
            <a:xfrm>
              <a:off x="7407360" y="5450040"/>
              <a:ext cx="725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467480" y="54864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1" descr=""/>
          <p:cNvPicPr/>
          <p:nvPr/>
        </p:nvPicPr>
        <p:blipFill>
          <a:blip r:embed="rId1"/>
          <a:stretch/>
        </p:blipFill>
        <p:spPr>
          <a:xfrm>
            <a:off x="682560" y="347760"/>
            <a:ext cx="7961400" cy="266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implemachines.gif"/>
          <p:cNvPicPr/>
          <p:nvPr/>
        </p:nvPicPr>
        <p:blipFill>
          <a:blip r:embed="rId2"/>
          <a:stretch/>
        </p:blipFill>
        <p:spPr>
          <a:xfrm>
            <a:off x="1523880" y="2666880"/>
            <a:ext cx="5992920" cy="3581640"/>
          </a:xfrm>
          <a:prstGeom prst="rect">
            <a:avLst/>
          </a:prstGeom>
          <a:ln w="0">
            <a:noFill/>
          </a:ln>
        </p:spPr>
      </p:pic>
      <p:pic>
        <p:nvPicPr>
          <p:cNvPr id="239" name="01 We Rock.wma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216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7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447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A stiff bar that rests on a support called fulcrum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8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8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9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9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9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0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0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3581280" y="5029200"/>
            <a:ext cx="200520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n object with at least one slanting side ending in a sharp edge, which cuts materials ap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1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1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2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2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2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3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34:42Z</dcterms:created>
  <dc:creator>schu</dc:creator>
  <dc:description/>
  <dc:language>en-US</dc:language>
  <cp:lastModifiedBy>schu</cp:lastModifiedBy>
  <dcterms:modified xsi:type="dcterms:W3CDTF">2009-03-29T01:50:38Z</dcterms:modified>
  <cp:revision>29</cp:revision>
  <dc:subject/>
  <dc:title>Slide 1</dc:title>
</cp:coreProperties>
</file>